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837-F694-4F37-B7D7-DED1E36B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77E-171A-497B-B870-626E068D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E93-8DEB-402B-ACA9-AA3ECCC9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5AE-6AAF-4291-BE35-C5A01B85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E70-D8FB-46A8-910B-B07442D2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372-E60B-4CD7-9BFE-3DDCE6C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9FF-AE35-4C04-8ADD-12C0C9A9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C1C-7A7D-454B-AE45-8E3AAA49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0E7-DDA5-4643-A99F-2C8EB043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C8D-F24A-470B-B80D-214260E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B3C-6674-40E1-AF92-C5736E6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01A-EB5A-4FC7-8C1F-A8C9D659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3394-8C72-4B59-9E20-32DA8A661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olpicsblog.com/wp-content/uploads/2007/07/5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nickjenkins.net/pictures/travel/australia/whitsunday/fish01_std.jpg&amp;imgrefurl=http://www.nickjenkins.net/travel/whitsunday.html&amp;h=533&amp;w=800&amp;sz=31&amp;hl=en&amp;start=56&amp;tbnid=jqxdL4zPp_v5tM:&amp;tbnh=95&amp;tbnw=143&amp;prev=/images%3Fq%3DRainbow%2Bfish%2Bglittering%2Bscale%26start%3D40%26gbv%3D2%26ndsp%3D20%26hl%3Den%26safe%3Dactive%26sa%3D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bofamily.com/img/programs/rainbowfish_628x357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9185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en-GB" sz="9600" spc="-1" strike="noStrike">
                <a:solidFill>
                  <a:srgbClr val="0066cc"/>
                </a:solidFill>
                <a:latin typeface="Comic Sans MS"/>
              </a:rPr>
              <a:t>Rainbow Fi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66"/>
                </a:solidFill>
                <a:latin typeface="Comic Sans MS"/>
              </a:rPr>
              <a:t>The most beautiful fish in the oc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Marcus Pf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3048120" cy="381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850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51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wasn’t too sure, but just then he felt the light touch of a fin. It was the little blue f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095800" cy="496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2446200"/>
            <a:ext cx="390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4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, ple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lease don’t be ang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lease give m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your scales, j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small one” Sai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ittle blue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4400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51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very, very small scale” he thought, “I will hardly miss it.” 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refully pulled off his very smallest glittering scale.  “Here, I’ll give you this o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9996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nk you, Thank you very much!”  sai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ttle blue fish excitedly. “You a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kind 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elt quite st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watched the little blue fish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a long time as he swam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way with his glittering sc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500280"/>
            <a:ext cx="31687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on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s surrounded by other fish.  All of them wanted to have a glittering sc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ared out his scales and felt happier and happier as he did s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782800"/>
            <a:ext cx="4608360" cy="3062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84920" y="3089160"/>
            <a:ext cx="383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ally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had only one glittering scale left, and he was happier than he had ever b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51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e on,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come and play with us!” called the others.  “I’m coming!” said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went happily with the other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753080" cy="2181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932360" cy="328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02800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51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where in the deepest sea there lived a fish, he was the most beautiful fish in the entire ocean. He was rainbow colo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862600" cy="522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59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other fish admired his colourful scales and called him  </a:t>
            </a:r>
            <a:r>
              <a:rPr b="0" lang="en-GB" sz="40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752480"/>
            <a:ext cx="777708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59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e and play with us,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th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s proud and swam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50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ittle blue fish swam behind him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it for me! Please give me one of your scales, they are beautiful and you have so man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Give you one of my scales, What are you thinking, get away from me” Cried the </a:t>
            </a:r>
            <a:r>
              <a:rPr b="1" lang="en-GB" sz="24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0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0066cc"/>
                </a:solidFill>
                <a:latin typeface="Comic Sans MS"/>
              </a:rPr>
              <a:t>blue fis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wam away, he was still upset and told all his friends. From then on nobody wanted to be with the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632720" cy="435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71640" y="6035760"/>
            <a:ext cx="56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Comic Sans MS"/>
              </a:rPr>
              <a:t>The Rainbow Fish was all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5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use were 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</a:rPr>
              <a:t>Rainbow Fish’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autiful scales if nobody wanted to be with him. He was the loneliest fish in the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777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day he told his sorrows to a star fish. “I’m so beautiful why doesn’t anyone like m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16720" cy="424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71640" y="602136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Comic Sans MS"/>
              </a:rPr>
              <a:t>“</a:t>
            </a:r>
            <a:r>
              <a:rPr b="1" lang="en-GB" sz="2000" spc="-1" strike="noStrike">
                <a:solidFill>
                  <a:srgbClr val="0066cc"/>
                </a:solidFill>
                <a:latin typeface="Comic Sans MS"/>
              </a:rPr>
              <a:t>In a cave behind the coral reef lives a wise octopus. Perhaps he can you help you” Said the star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519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ainbow fis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ound the cave. It was very dark, but suddenly he saw two glowing ey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I have been expecting you, the waves have told me you story” said the </a:t>
            </a:r>
            <a:r>
              <a:rPr b="0" lang="en-GB" sz="2800" spc="-1" strike="noStrike">
                <a:solidFill>
                  <a:srgbClr val="ff9933"/>
                </a:solidFill>
                <a:latin typeface="Comic Sans MS"/>
              </a:rPr>
              <a:t>octopus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769080" cy="5084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164360" y="2565360"/>
            <a:ext cx="255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“</a:t>
            </a: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Give each f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One of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scales the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may no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Beautiful fis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but you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happy agai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said the</a:t>
            </a:r>
            <a:r>
              <a:rPr b="1" lang="en-GB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9933"/>
                </a:solidFill>
                <a:latin typeface="Comic Sans MS"/>
              </a:rPr>
              <a:t>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Comic Sans MS"/>
              </a:rPr>
              <a:t>octopus</a:t>
            </a:r>
            <a:r>
              <a:rPr b="1" lang="en-GB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7:59:44Z</dcterms:created>
  <dc:creator>Becky Rollings</dc:creator>
  <dc:description/>
  <dc:language>en-US</dc:language>
  <cp:lastModifiedBy>Cynthia</cp:lastModifiedBy>
  <dcterms:modified xsi:type="dcterms:W3CDTF">2010-09-05T20:37:54Z</dcterms:modified>
  <cp:revision>12</cp:revision>
  <dc:subject/>
  <dc:title>  Rainbow Fish</dc:title>
</cp:coreProperties>
</file>